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BD4-FB13-493D-A658-0C3CFD6C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37D-B019-450C-8B41-F6FDF07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F04-72AC-4386-8256-7A6A9A0E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9EE-CDB1-409B-BF5D-B907E0CB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9C7-0FE0-4A89-B01F-C35C18A3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CFD-02AE-4C1D-B0D3-5AC24A0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3C1-3675-4B1C-A57B-D6538BC5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1CF-34BC-4950-B1AA-BA21B30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5D7-2989-4351-B50C-A8D1172C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A8F-12F9-432F-8EA5-4A34CA0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C57-7154-4DBA-A854-4CAC498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A5C-8B0E-4928-AA5B-EE0E42F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D06-8CC6-45A3-9B37-BFC970F3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1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4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examen del capitulo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5228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y &amp; if the statement is true wri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; if it is false wri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d correct the bold word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popular en los países hisp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jugadores de béisbol so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tbol american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mbié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popular en el mundo hisp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jugador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on de San Pedro de Macorís en la Republica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jugadores de futbol pueden tocar el balón c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abeza y con el p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Copia y 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un partido de béisbol hay nuev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tiemp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entr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pectadores van…a ver un partido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a la canch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estad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a la port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…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orr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trapa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lan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futbol los jugadores lanzan el balón c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 el ba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ma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asquetbol los jugadores meten el balón 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el ce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porterí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 atrapan la pelota c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un gu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75960"/>
            <a:ext cx="85341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onjuga los siguientes verbos en forma de B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zar (to 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 (to be able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rzar (to have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ir (to pre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(to p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zar (to 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 (to ret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ñar (to d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II- 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Escribe 2 oraciones originales con cada verbo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(1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LUNES, 18 DE MAR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30:24Z</dcterms:created>
  <dc:creator>Helen Zumaeta</dc:creator>
  <dc:description/>
  <dc:language>en-US</dc:language>
  <cp:lastModifiedBy>Helen Zumaeta</cp:lastModifiedBy>
  <dcterms:modified xsi:type="dcterms:W3CDTF">2013-03-11T12:22:54Z</dcterms:modified>
  <cp:revision>19</cp:revision>
  <dc:subject/>
  <dc:title>Me llamo _________ Clase 7il la fecha es el 26 de octubre del 2012</dc:title>
</cp:coreProperties>
</file>